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364-B0D1-425F-8270-425CA5DA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028-01B3-493C-9479-C5E0222D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353-5F92-47E0-B48F-55532CAC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8F7-A4CA-4877-8A98-78AB2DCE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766-E5DB-4EA2-A72D-691DD175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3BD-8BD9-4707-83F0-317C9593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BFA-0B5D-468B-BBCF-7CB13344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2AA-A6EB-4147-BB9A-26CE0AAB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52D-C194-4611-8D33-B013BD17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EFE-0F99-404A-9CC8-7D5FF326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C8D-CD5B-4900-9623-7CDEC35D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612-C0A5-497F-81D0-C6489D32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D6A1-103F-4118-BD41-1154A005F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nd Subtracting Inte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9280" y="1992240"/>
            <a:ext cx="44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1: Add and subtract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4880" y="3733920"/>
            <a:ext cx="41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ock- Paper-Sci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9246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743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0" y="21337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21337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21337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205740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75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92504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763120" cy="777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2320" y="22096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220968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1880" y="220968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1033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0" y="21337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2133720"/>
            <a:ext cx="38124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21337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395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20240" y="502920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600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38280" y="2133720"/>
            <a:ext cx="533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1337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72400" y="182880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52:24Z</dcterms:created>
  <dc:creator>Graham</dc:creator>
  <dc:description/>
  <dc:language>en-US</dc:language>
  <cp:lastModifiedBy>Graham</cp:lastModifiedBy>
  <dcterms:modified xsi:type="dcterms:W3CDTF">2011-09-05T22:14:03Z</dcterms:modified>
  <cp:revision>2</cp:revision>
  <dc:subject/>
  <dc:title>Lesson 1.7 Adding and Subtracting Integers</dc:title>
</cp:coreProperties>
</file>